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787DC-599C-405F-8BAE-7B85E9DB8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DE39B-5842-4848-8897-F5C7C7A0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CF53C-305C-4C93-AE91-028879AB7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6E860-C45D-4F06-B42A-94B409EC2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123CA-AE9B-4492-B57C-C6E1280D0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0B610-C0D2-476C-9D0F-85030030C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C0B53-6563-4AF4-96B4-6F83F7C98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9D256-52AB-4717-AECE-A83605F2D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916B-FDA6-4853-BBFE-73C79E079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1495E-A269-461C-B0B6-D7713BB51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1A4F7-59AB-4DBA-9BDF-33D1D946D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1C821-9ED4-4DB2-86FC-B8C1F866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100C8-2172-4E85-8A72-93427563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47092-2696-4AF9-90DD-4A7639449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1B0B9-4BDE-41D4-8C2A-757E03050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C7AD2-3DDF-4298-98B3-E2DD5B8D2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5F0DB-FC06-4A9B-8FC8-112F9C6AB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C4437A-2348-4163-AA01-854B3DFA5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A5C0B-5E61-4AF9-B064-FAA586BB8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68B5D-6647-4B2E-825F-B21890710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8619B-C3D3-4609-875B-73183336F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0076F-998C-47AD-BF7A-1B75CFC52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3970-635E-4717-BBC4-4160C8BC9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7484A-8B6C-4532-AA23-FC8AD7DD4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2491C-1352-4510-BA52-D492C4433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B8226-93E9-4CDF-A0A6-3494DE214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DECDB-68B0-4314-BED6-235B4907D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AD47E-65C1-4F12-AB51-559000E50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D2265E-2ED2-4BAE-AC14-CD2C2EFC31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CCD93-F7B5-48EC-A82D-0AC8368736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9C94D-6AAA-496E-A8DF-F8FEA29D8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18F44-6A84-43B2-8F9E-E2D901A03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D2470-B966-4F36-9975-A0AC74B55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65117-A3BB-4D06-A1FB-982A5008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46274-1FAD-49BB-B7AD-1436B7D89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8D07A-1C1F-4052-B4B9-74A87BF71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27BBD-FCC8-468A-8504-08EFEB794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23A0C-E981-45DD-8686-6DE862C81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223C7-065D-4A76-B8F8-10E3A956F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4DFA5-051C-45AD-BBE5-3B9544EE9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5B90B-00DE-40A7-A965-D7D192004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46B5D5-5EEF-4F8C-8A82-A11F9C96FB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ECA798-2C88-40E8-A0E8-2F294841E8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02EC06-CDFA-4159-AC07-83AAA7423B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CD89E-D253-46D5-B155-EB26689DE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8C932-DB3A-4339-B451-3B328D370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68425-A321-4209-AFFF-1913EAE72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41449-B9C5-4417-9D8D-4E07F8CCA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482C7-0775-449F-B4CD-AA5C49497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80FCE1-61AE-45B9-B420-EE5D3E738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28638-90BE-4F4C-BF79-4F426DF1A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5B3F2-DCC7-469B-B165-512E3307E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FC9FD-CD3F-42EA-A9D9-116A79F9A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A0328-5AD7-48DD-8CBF-3B16AFA0E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1B531E-D38A-4B62-A097-272C3DC81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460A-8D36-46F2-B9FA-91BEAEB97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B2C42A-D7CA-48AB-8C8B-D092B48B51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01DA15-3514-4840-B7EF-D674BD933B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553AF-B800-4E79-8B4E-B1EBBD489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D6321-2E0F-4745-99ED-087AB225E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74543-1939-4C81-A789-043397798A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2ABE2-92F3-4A20-877D-842D08382C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80039-B85D-4706-9927-C2B221468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5C47F-7C46-4AEB-8DDA-D84355B76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3D5C2-F624-40A2-953B-1FEFAA530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8A475-1951-486F-A04C-8CA42AF08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788A-2E76-4790-99C8-56EBBB4D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61815-6415-4EAB-B4C2-D967AE6FA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FF9A92-1A03-4431-95AE-22D5BDF45B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B240F1-9EA6-41F9-BF84-E57BC74BFD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AFAC66-D823-43EE-A461-A21CDA249A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EC36AA-2760-4EEC-9BE1-0576C70F9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810DA-0BAB-461C-B86D-E113FA61D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AD1298-3FB9-4356-A0C5-279F7F6E0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B714B-E9EE-43B0-85CC-BC761579F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943FB-B5A1-459A-B1FE-64B4BCA62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77B69-677A-4967-909B-EA72A0770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07AC-4FE0-4CA9-A395-FF47435C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EB8A1-32E5-4FC7-B329-98F3B261C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1ABDE-C767-43EE-A94E-ABBD9344E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0E194-8BE2-4F5C-867B-A746A29A6B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70CF73-2A96-44C1-9BDE-7CFF42B53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96DE13-84C2-4EAD-A61E-E2D1440024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3301C7-F0F5-4C23-8DB3-7484985D0C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47F7F-3C6F-4636-8B9F-4CF769EAD0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17ECF-B751-46CC-A02B-140D770B28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3EDAB-ABA3-4353-8EEE-F87C3D46F4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5C403-AE56-46DE-BEA1-DDC96A798D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FF5C-3B88-4CF5-BFF0-5069CD39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01D94-4573-4C58-A468-D7573C763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87646-9FAA-438E-81EA-6A5BE61C9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543EE-3ECD-49DF-84D8-3D80CCF19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ABFBA-66D4-4366-8096-06162084D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03E0F-DE36-4FEB-8F35-1F50C36BE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BF991B-E0DF-48EE-B258-3D0F6ADCE4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7EAB31-AFB4-4160-8331-0AF24E2AB3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2B51D-F316-49ED-985B-01D14360DD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8f0f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CB951-B74B-40C2-8DD6-C88E3E035E8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D32F1-71AC-46C5-91FD-6CA070F436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9BE28-990C-41C0-BD67-01E1C2A3FC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038E-D48D-4951-8B0C-CB75FC0CF4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4C8C6-7761-485B-96EF-F50CBD85ED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46227-6E4C-458F-A961-18A8FC99B4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74132-D08D-4CB8-9E0A-E6BCEC7EDFD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2193840"/>
            <a:ext cx="7778880" cy="2060640"/>
          </a:xfrm>
          <a:prstGeom prst="rect">
            <a:avLst/>
          </a:prstGeom>
          <a:ln w="0">
            <a:noFill/>
          </a:ln>
        </p:spPr>
      </p:pic>
      <p:sp>
        <p:nvSpPr>
          <p:cNvPr id="371" name="PlaceHolder 1"/>
          <p:cNvSpPr>
            <a:spLocks noGrp="1"/>
          </p:cNvSpPr>
          <p:nvPr>
            <p:ph type="subTitle"/>
          </p:nvPr>
        </p:nvSpPr>
        <p:spPr>
          <a:xfrm>
            <a:off x="685800" y="405756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ea typeface="ＭＳ Ｐゴシック"/>
              </a:rPr>
              <a:t>Horse jumping</a:t>
            </a:r>
            <a:endParaRPr b="0" lang="en-US" sz="2700" spc="-1" strike="noStrike">
              <a:solidFill>
                <a:srgbClr val="000000"/>
              </a:solidFill>
              <a:latin typeface="Lucida Sans Unicode"/>
            </a:endParaRPr>
          </a:p>
        </p:txBody>
      </p:sp>
      <p:pic>
        <p:nvPicPr>
          <p:cNvPr id="372" name="Picture 13" descr=""/>
          <p:cNvPicPr/>
          <p:nvPr/>
        </p:nvPicPr>
        <p:blipFill>
          <a:blip r:embed="rId2"/>
          <a:srcRect l="15128" t="0" r="1684" b="7731"/>
          <a:stretch/>
        </p:blipFill>
        <p:spPr>
          <a:xfrm>
            <a:off x="3352680" y="620640"/>
            <a:ext cx="3146400" cy="2274840"/>
          </a:xfrm>
          <a:prstGeom prst="rect">
            <a:avLst/>
          </a:prstGeom>
          <a:ln w="0">
            <a:noFill/>
          </a:ln>
        </p:spPr>
      </p:pic>
      <p:sp>
        <p:nvSpPr>
          <p:cNvPr id="373" name="TextBox 4"/>
          <p:cNvSpPr/>
          <p:nvPr/>
        </p:nvSpPr>
        <p:spPr>
          <a:xfrm>
            <a:off x="6793920" y="6172200"/>
            <a:ext cx="2167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y Diksha Jai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2603520"/>
            <a:ext cx="8229600" cy="23493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The more speed the horse has, the higher it can jump.</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1500120"/>
            <a:ext cx="8242560" cy="1157400"/>
          </a:xfrm>
          <a:prstGeom prst="rect">
            <a:avLst/>
          </a:prstGeom>
          <a:ln w="0">
            <a:noFill/>
          </a:ln>
        </p:spPr>
      </p:pic>
      <p:pic>
        <p:nvPicPr>
          <p:cNvPr id="376"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1292400" y="835200"/>
            <a:ext cx="6864120" cy="1152360"/>
          </a:xfrm>
          <a:prstGeom prst="rect">
            <a:avLst/>
          </a:prstGeom>
          <a:ln w="0">
            <a:noFill/>
          </a:ln>
        </p:spPr>
      </p:pic>
      <p:pic>
        <p:nvPicPr>
          <p:cNvPr id="378" name="Picture 5" descr=""/>
          <p:cNvPicPr/>
          <p:nvPr/>
        </p:nvPicPr>
        <p:blipFill>
          <a:blip r:embed="rId2"/>
          <a:srcRect l="18950" t="52896" r="58045" b="3680"/>
          <a:stretch/>
        </p:blipFill>
        <p:spPr>
          <a:xfrm>
            <a:off x="3886200" y="2209680"/>
            <a:ext cx="1676520" cy="2590920"/>
          </a:xfrm>
          <a:prstGeom prst="rect">
            <a:avLst/>
          </a:prstGeom>
          <a:ln w="0">
            <a:noFill/>
          </a:ln>
        </p:spPr>
      </p:pic>
      <p:pic>
        <p:nvPicPr>
          <p:cNvPr id="379" name="Picture 10" descr="AA028240.png"/>
          <p:cNvPicPr/>
          <p:nvPr/>
        </p:nvPicPr>
        <p:blipFill>
          <a:blip r:embed="rId3"/>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Content Placeholder 1"/>
          <p:cNvSpPr/>
          <p:nvPr/>
        </p:nvSpPr>
        <p:spPr>
          <a:xfrm>
            <a:off x="838080" y="2077920"/>
            <a:ext cx="7925040" cy="41148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a horse jumps, it exerts pressure on the ground. This force is applied only as long as its hooves are touching the ground. Once the horse's hooves touch off of the ground, its speed will immediately start decreasing, until it gets to the top of its arc where its vertical velocity equals zero.  When the horse is in air, only gravity  is acting on it.  Gravity pulls the horse back to the ground.  After the horse reaches the highest point of its jump it starts to descend.  Its velocity then increases, until the hooves reach the ground.</a:t>
            </a:r>
            <a:endParaRPr b="0" lang="en-US" sz="2300" spc="-1" strike="noStrike">
              <a:solidFill>
                <a:srgbClr val="000000"/>
              </a:solidFill>
              <a:latin typeface="Arial"/>
            </a:endParaRPr>
          </a:p>
        </p:txBody>
      </p:sp>
      <p:pic>
        <p:nvPicPr>
          <p:cNvPr id="381" name="Picture 4" descr=""/>
          <p:cNvPicPr/>
          <p:nvPr/>
        </p:nvPicPr>
        <p:blipFill>
          <a:blip r:embed="rId1"/>
          <a:srcRect l="1976" t="15128" r="13017" b="7147"/>
          <a:stretch/>
        </p:blipFill>
        <p:spPr>
          <a:xfrm>
            <a:off x="1676520" y="228600"/>
            <a:ext cx="6248160" cy="1849320"/>
          </a:xfrm>
          <a:prstGeom prst="rect">
            <a:avLst/>
          </a:prstGeom>
          <a:ln w="0">
            <a:noFill/>
          </a:ln>
        </p:spPr>
      </p:pic>
      <p:pic>
        <p:nvPicPr>
          <p:cNvPr id="382"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2514240"/>
            <a:ext cx="8229600" cy="24382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The angle at which the horse jumps will determine how far it will go. Generally, the higher the jump, the steeper the launch angle needs to b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The bigger the horse, the higher it can jump.</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450720" y="969840"/>
            <a:ext cx="8242560" cy="1359000"/>
          </a:xfrm>
          <a:prstGeom prst="rect">
            <a:avLst/>
          </a:prstGeom>
          <a:ln w="0">
            <a:noFill/>
          </a:ln>
        </p:spPr>
      </p:pic>
      <p:pic>
        <p:nvPicPr>
          <p:cNvPr id="385"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Title 2" descr=""/>
          <p:cNvPicPr/>
          <p:nvPr/>
        </p:nvPicPr>
        <p:blipFill>
          <a:blip r:embed="rId1"/>
          <a:stretch/>
        </p:blipFill>
        <p:spPr>
          <a:xfrm>
            <a:off x="1749600" y="2255760"/>
            <a:ext cx="6254640" cy="17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47:51Z</dcterms:created>
  <dc:creator>Ajay Jain</dc:creator>
  <dc:description/>
  <dc:language>en-US</dc:language>
  <cp:lastModifiedBy>Ajay Jain</cp:lastModifiedBy>
  <dcterms:modified xsi:type="dcterms:W3CDTF">2010-01-14T12:34:15Z</dcterms:modified>
  <cp:revision>22</cp:revision>
  <dc:subject/>
  <dc:title>Physics in daily life</dc:title>
</cp:coreProperties>
</file>